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0D0-8847-4148-9C55-7BFD7041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D59-22CF-422E-A76D-732697A8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6FF-9E8B-434A-9825-6B39516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CC0-22DF-413B-803C-DE1458E6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021-723B-4703-A64D-4B4D90C0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F24-C65E-4671-B5E5-42DBA2F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1C0-E428-448A-9CBE-DD8F818C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C72B-F6B0-455F-A0F1-AEF594C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E102-4E6E-4477-BD95-01A0D65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01C6-9191-43CA-A311-716952F6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8D5-82D8-4FAE-B299-3BDD3FD0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E90-28AA-418E-9731-50191BE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3F0F-49AF-4253-98AF-2AA7FD5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596-4C19-4B6E-B34B-37F2DFB7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B6E6-C2D5-46E5-A502-6263BFF5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54F4-026E-435A-A488-8F038D5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1F1-0344-40FB-9A58-2F907468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8560-E485-4EAB-870D-85C19EE8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FBBF-1AFC-46CB-BDE6-E3E8F1D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ADC3-7561-495F-A761-9D87201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7AF9-F8D8-4BAA-A4F1-436CB9EB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E32E-D04F-42DB-8FD0-955A4E5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784-BB35-4AA6-B284-48CA3210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5F28-775E-4C70-90A5-3566E4D1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6720-099F-4059-992D-26B220F7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D669-FB77-4BC2-8354-7598E73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60C5-DCF8-40C5-9016-49943B2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1619-8677-4DE1-AFC8-71D39B24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2748-6697-4650-8C0E-439D8D1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F607-A6CA-48F5-857C-9DD73EB7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09B7-3933-4521-9CB4-3B7D4A3B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F33E-744F-4C25-9992-99C41C9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1678-5099-406A-B934-78E1113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352-8CB9-40E8-9F60-4C9815C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9038-4E4E-4D67-8E39-795E5B5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5219-125A-413E-A2F8-CC71D5C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E333-DAF5-4476-A3FD-B5E9305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1AAC-B7DC-470A-AD47-7647E69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C27E-38CA-4721-B640-763D8F6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122E-320A-4022-8F6C-CF9DAE9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5BA1-F455-4BD6-BABB-A621C04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CE69-544E-48F1-8B7F-07FCADC9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E257-EEFF-481A-A21C-C1E05379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F9F-D99A-45D5-B682-30549F9E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008-2677-43A4-9870-702DF6E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850-11FC-420C-A22A-2E138FD4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682-9C22-4688-96C3-C1582ED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58A-DCB9-4565-88B3-39D9B69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B97-29FA-4DF8-A367-E59515D58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E6B-A3A5-4E61-B149-66996FE5C9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A940-C6AE-4E27-945F-1B0E39CAB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150-BBF7-4549-A187-D4934DCE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kodak.com/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18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4760" y="114264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ic Photo-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: Microsoft Office Pictur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ze -  try to keep photos less than 500 pixels for use 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er pixels, better quality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70440" cy="297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op – remove edges or unwan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257200" cy="327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895480" y="2057400"/>
            <a:ext cx="3733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ODAK has a helpful website that will tell you more about taking great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dak.com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k through “Consumer Products” and “Taking Great Pict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s” and “Top ten ti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aking GREAT Pic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Flickr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image storag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easily accessible storage of digit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e / share your own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- Find other images for your projec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for teacher and stud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w.flickr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Flickr.c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gital Storytell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hoto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igital Storytell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hoosing a camera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asic photograph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djusting photos (size, brightness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ing Photos On-line (flick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oto Stor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ymation /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Presentation Topic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much is too much when it comes to assistive technology?  Should students be able to use spell chec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w much is too much when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es to assis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chnolog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hould our students be 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spell che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Lesson Plan / Tech Plan due next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Groups for presentations to me…(one person in each group do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ad “Photostory 3” on your computer (XP &amp; Vist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e some phot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igital story - send it to a friend and me!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hotograph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35788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Photography in the Classroom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ld Chinese Pro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s love to tell stories using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earbook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folio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1 Uses for a Digital Camera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Photography in the Classroom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Rule of Thirds and Photography: Rectangle Divided into Thirds"/>
          <p:cNvPicPr/>
          <p:nvPr/>
        </p:nvPicPr>
        <p:blipFill>
          <a:blip r:embed="rId2"/>
          <a:stretch/>
        </p:blipFill>
        <p:spPr>
          <a:xfrm>
            <a:off x="3429000" y="3429000"/>
            <a:ext cx="3657600" cy="28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Little Lamb Obeying the Rule of Thirds"/>
          <p:cNvPicPr/>
          <p:nvPr/>
        </p:nvPicPr>
        <p:blipFill>
          <a:blip r:embed="rId2"/>
          <a:stretch/>
        </p:blipFill>
        <p:spPr>
          <a:xfrm>
            <a:off x="3505320" y="3505320"/>
            <a:ext cx="350496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Rule of Thirds and Photography: Rectangle Divided into Thirds"/>
          <p:cNvPicPr/>
          <p:nvPr/>
        </p:nvPicPr>
        <p:blipFill>
          <a:blip r:embed="rId3"/>
          <a:stretch/>
        </p:blipFill>
        <p:spPr>
          <a:xfrm>
            <a:off x="3429000" y="3429000"/>
            <a:ext cx="3657600" cy="2867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Little Lamb Obeying the Rule of Thirds"/>
          <p:cNvPicPr/>
          <p:nvPr/>
        </p:nvPicPr>
        <p:blipFill>
          <a:blip r:embed="rId2"/>
          <a:stretch/>
        </p:blipFill>
        <p:spPr>
          <a:xfrm>
            <a:off x="3505320" y="350532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7" name="" descr="Mt. Rainier and Barn"/>
          <p:cNvPicPr/>
          <p:nvPr/>
        </p:nvPicPr>
        <p:blipFill>
          <a:blip r:embed="rId2"/>
          <a:stretch/>
        </p:blipFill>
        <p:spPr>
          <a:xfrm>
            <a:off x="2362320" y="1523880"/>
            <a:ext cx="3062160" cy="219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Rule of Thirds and Photography of a Barn Near Mt. Rainier"/>
          <p:cNvPicPr/>
          <p:nvPr/>
        </p:nvPicPr>
        <p:blipFill>
          <a:blip r:embed="rId3"/>
          <a:stretch/>
        </p:blipFill>
        <p:spPr>
          <a:xfrm>
            <a:off x="5105520" y="3962520"/>
            <a:ext cx="3124080" cy="224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18T17:40:50Z</dcterms:modified>
  <cp:revision>33</cp:revision>
  <dc:subject/>
  <dc:title>Welcome to  ED3862</dc:title>
</cp:coreProperties>
</file>